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4F0B-F8F0-400E-B554-A35D43B2C2B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0F70-B7F6-45A4-8417-871FEBC9D04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475B-2672-4269-A2D5-7A23CA0D8F4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ED50E-3250-4E7A-8FC1-F3F2D5C59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7993B-D62F-4936-9C00-BF9D8A835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D9463-A8FC-4836-8D23-4C15E2474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7D39C-9255-4E04-B2F1-B2CC0CC93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09311-81BE-40BD-9658-C3406DAC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08898-4490-43F2-9A9F-DC8DA33E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5A65E-821B-46D4-959E-62A4FD35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5F9DF-0989-4CFE-94B1-7947ADEE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AE4A3-3605-49D4-8FA7-483B3B88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5A129-66ED-4BA6-BA4A-99DAF2B0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544F4-A3D0-4357-A5A5-A5E88EA6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E587B-B408-4A99-83C7-3A0BC2252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28DCB-89DD-4B61-A713-64973A12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4F415-CAD6-4844-8774-A40A53BE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3C97F-A088-4CB8-AEE0-DDC692F5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CE2DD-359C-44DD-89E2-C6D51005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5616A-1EE0-4C7E-BCFE-9948ED14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E5E23-9D58-4312-A3D3-6D31A8927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C7B5D-65EE-4EC2-B096-F82F08816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5CC13-A404-4C8D-BF5F-607AC12C5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E316-F4F1-4A49-980E-E12ACC4E0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0FEC-3CFE-48AE-AB90-175CB5FD9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AA549-0C11-446F-A732-BF9DD0171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05DFF-EBD4-4B23-BEBE-2A45A355C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29A4-C8E5-45B3-A709-513EDFFF88EE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Line 41"/>
          <p:cNvSpPr/>
          <p:nvPr/>
        </p:nvSpPr>
        <p:spPr>
          <a:xfrm>
            <a:off x="6012000" y="6524640"/>
            <a:ext cx="273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Line 42"/>
          <p:cNvSpPr/>
          <p:nvPr/>
        </p:nvSpPr>
        <p:spPr>
          <a:xfrm>
            <a:off x="8748720" y="580536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2" descr=""/>
          <p:cNvPicPr/>
          <p:nvPr/>
        </p:nvPicPr>
        <p:blipFill>
          <a:blip r:embed="rId2"/>
          <a:stretch/>
        </p:blipFill>
        <p:spPr>
          <a:xfrm>
            <a:off x="1979640" y="68400"/>
            <a:ext cx="5040360" cy="1199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0AA8-ED39-44B0-A52A-C13898988B42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10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НТЕГРИСАНЕ</a:t>
            </a:r>
            <a:r>
              <a:rPr b="1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АКАДЕМСКЕ СТУДИЈЕ ФАРМАЦИЈЕ</a:t>
            </a:r>
            <a:br>
              <a:rPr sz="2500"/>
            </a:b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Издавање лекова у пракси</a:t>
            </a:r>
            <a:br>
              <a:rPr sz="2500"/>
            </a:br>
            <a:br>
              <a:rPr sz="1500"/>
            </a:br>
            <a:r>
              <a:rPr b="1" lang="sr-CS" sz="2500" spc="-1" strike="noStrike">
                <a:solidFill>
                  <a:srgbClr val="cc0000"/>
                </a:solidFill>
                <a:latin typeface="Candara"/>
              </a:rPr>
              <a:t>Предавање </a:t>
            </a:r>
            <a:r>
              <a:rPr b="1" lang="sr-Latn-CS" sz="2500" spc="-1" strike="noStrike">
                <a:solidFill>
                  <a:srgbClr val="cc0000"/>
                </a:solidFill>
                <a:latin typeface="Candara"/>
              </a:rPr>
              <a:t>1</a:t>
            </a:r>
            <a:r>
              <a:rPr b="1" lang="sr-CS" sz="2500" spc="-1" strike="noStrike">
                <a:solidFill>
                  <a:srgbClr val="cc0000"/>
                </a:solidFill>
                <a:latin typeface="Candara"/>
              </a:rPr>
              <a:t>2</a:t>
            </a:r>
            <a:endParaRPr b="1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3357360"/>
            <a:ext cx="91440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700" spc="-1" strike="noStrike">
                <a:solidFill>
                  <a:srgbClr val="000000"/>
                </a:solidFill>
                <a:latin typeface="Candara"/>
              </a:rPr>
              <a:t>Антибиотици</a:t>
            </a:r>
            <a:endParaRPr b="0" lang="en-US" sz="47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Candara"/>
              </a:rPr>
              <a:t>Проф</a:t>
            </a:r>
            <a:r>
              <a:rPr b="1" lang="sr-Latn-CS" sz="2900" spc="-1" strike="noStrike">
                <a:solidFill>
                  <a:srgbClr val="cc0000"/>
                </a:solidFill>
                <a:latin typeface="Candara"/>
              </a:rPr>
              <a:t>. др Марко Фолић</a:t>
            </a: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47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000000"/>
                </a:solidFill>
                <a:latin typeface="Candara"/>
              </a:rPr>
              <a:t>Цефалоспорини</a:t>
            </a:r>
            <a:br>
              <a:rPr sz="2900"/>
            </a:br>
            <a:r>
              <a:rPr b="1" i="1" lang="it-IT" sz="2500" spc="-1" strike="noStrike">
                <a:solidFill>
                  <a:srgbClr val="000000"/>
                </a:solidFill>
                <a:latin typeface="Candara"/>
              </a:rPr>
              <a:t>Тре</a:t>
            </a:r>
            <a:r>
              <a:rPr b="1" i="1" lang="sr-Latn-CS" sz="25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1" i="1" lang="it-IT" sz="2500" spc="-1" strike="noStrike">
                <a:solidFill>
                  <a:srgbClr val="000000"/>
                </a:solidFill>
                <a:latin typeface="Candara"/>
              </a:rPr>
              <a:t>а генерација</a:t>
            </a:r>
            <a:endParaRPr b="1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Цефалоспорини из ове генерације имају јо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ири спектар дејства на грам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негативне микроб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али слабије делују на стафилокок од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припадника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 претходних генерација.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08520" indent="-30852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Осим цефподоксима и цефиксима, сви се примењују само парентерално.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08520" indent="-30852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3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i="1" lang="it-IT" sz="2300" spc="-1" strike="noStrike">
                <a:solidFill>
                  <a:srgbClr val="000000"/>
                </a:solidFill>
                <a:latin typeface="Candara"/>
              </a:rPr>
              <a:t>лабо делују на анаеробне бактерије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08520" indent="-30852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У ову групу спадају: цефподоксим, цефиксим, цефотаксим, цефтриаксон, цефтазидим, цефоперазон и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моксалактам.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08520" indent="-30852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орист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е се и 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за л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ење инфекција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ЦНС-а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08520" indent="-30852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Цефотаксим и цефтриаксон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: успех у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 л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ењ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 т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ких инфекција у абдомену и малој карлици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08520" indent="-308520">
              <a:lnSpc>
                <a:spcPct val="9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Ц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ефтазидим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–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индикован и 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за Pseudomonas aeruginosa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инфекцију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5560" y="25992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000000"/>
                </a:solidFill>
                <a:latin typeface="Candara"/>
              </a:rPr>
              <a:t>Цефалоспорини</a:t>
            </a:r>
            <a:br>
              <a:rPr sz="2900"/>
            </a:br>
            <a:r>
              <a:rPr b="1" i="1" lang="sr-Latn-CS" sz="2500" spc="-1" strike="noStrike">
                <a:solidFill>
                  <a:srgbClr val="000000"/>
                </a:solidFill>
                <a:latin typeface="Candara"/>
              </a:rPr>
              <a:t>Четврта </a:t>
            </a:r>
            <a:r>
              <a:rPr b="1" i="1" lang="en-US" sz="2500" spc="-1" strike="noStrike">
                <a:solidFill>
                  <a:srgbClr val="000000"/>
                </a:solidFill>
                <a:latin typeface="Candara"/>
              </a:rPr>
              <a:t>генерациј</a:t>
            </a:r>
            <a:r>
              <a:rPr b="1" i="1" lang="sr-Latn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56024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Ц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фепим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ри спектар у грам-негативној области од цефалоспорина III генерације, а по свом ефекту на грам-позитивне бактерије се прибл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ва цефалоспоринима I генерације.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осебно добро делује на P. aeruginosa и S. aureus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- индикован за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т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ке интрахоспиталне инфекције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узроковане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резистентним бактеријам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Не</a:t>
            </a: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ељена дејства цефалоспорина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Нај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шћ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е не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ељено дејство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алергија.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3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sr-CS" sz="23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i="1" lang="en-US" sz="2300" spc="-1" strike="noStrike">
                <a:solidFill>
                  <a:srgbClr val="000000"/>
                </a:solidFill>
                <a:latin typeface="Candara"/>
              </a:rPr>
              <a:t>20% болесника алерги</a:t>
            </a:r>
            <a:r>
              <a:rPr b="0" i="1" lang="sr-Latn-CS" sz="23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i="1" lang="en-US" sz="2300" spc="-1" strike="noStrike">
                <a:solidFill>
                  <a:srgbClr val="000000"/>
                </a:solidFill>
                <a:latin typeface="Candara"/>
              </a:rPr>
              <a:t>них на пеницилине показује исте</a:t>
            </a:r>
            <a:r>
              <a:rPr b="0" i="1" lang="sr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Candara"/>
              </a:rPr>
              <a:t>алергијске манифестације </a:t>
            </a:r>
            <a:r>
              <a:rPr b="0" i="1" lang="sr-CS" sz="2300" spc="-1" strike="noStrike">
                <a:solidFill>
                  <a:srgbClr val="000000"/>
                </a:solidFill>
                <a:latin typeface="Candara"/>
              </a:rPr>
              <a:t>након</a:t>
            </a:r>
            <a:r>
              <a:rPr b="0" i="1" lang="en-US" sz="2300" spc="-1" strike="noStrike">
                <a:solidFill>
                  <a:srgbClr val="000000"/>
                </a:solidFill>
                <a:latin typeface="Candara"/>
              </a:rPr>
              <a:t> примене цефалоспорина</a:t>
            </a:r>
            <a:r>
              <a:rPr b="0" i="1" lang="sr-CS" sz="23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i="1" lang="en-US" sz="23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Неподношење алкохол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600" spc="-1" strike="noStrike">
                <a:solidFill>
                  <a:srgbClr val="000000"/>
                </a:solidFill>
                <a:latin typeface="Candara"/>
              </a:rPr>
              <a:t>Ретко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 нефротокси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но дејство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Candara"/>
              </a:rPr>
              <a:t>цефалоспорини II и III генерације</a:t>
            </a: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Монобактами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Један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бета-лактамски прстен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редставник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зтреонам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Узак спектар деловањ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грам-негативни аероби (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Enterobacteriace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Pseudomonas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римењује се само парентерално, у л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њу т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ких инфекција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узрокованих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грам-негативним бактеријама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 постоји укр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тена алергија изм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ђ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у монобактама и осталих бета-лактамских антибиотика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злучује се путем бубрег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Нежељена дејств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флебитис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оспа,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ораст трансаминаз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Карб</a:t>
            </a: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пенеми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мипенем,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ропенем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, ертапенем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у својој молекули поред бета лактамског прстена имају јо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један циклус с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њен само од Ц-атома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Делују на в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ну грам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озитивних (меропенем слабије) и грам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егативних (меропенем ј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) бактерија укљу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ују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 и Pseudomonas и неке сојеве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MRSA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лотворни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су и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ротив анаеробних неспорул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х бактерија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родиру у ЦНС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1537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мипенем се примењује само парентерално и то у комбинацији са циластатином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;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ј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шћ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 н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љене реакције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мука и повр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ње, а код 1% болесника се јављају конвулзије.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ропенем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римењује сам, без циластатина. Н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љена дејства: мука и повр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ње, оспа, тромбоцитопенија и порем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ји функције јетре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ртапенем</a:t>
            </a:r>
            <a:r>
              <a:rPr b="1" i="1" lang="sr-CS" sz="2500" spc="-1" strike="noStrike">
                <a:solidFill>
                  <a:srgbClr val="000000"/>
                </a:solidFill>
                <a:latin typeface="Candara"/>
              </a:rPr>
              <a:t> –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спор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је се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елимин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ше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→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дозирање једном дневно.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У односу на остале карб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енеме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, слабије делује на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seudomonas и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cinetoba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ter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8556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Карб</a:t>
            </a: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пенеми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615600"/>
            <a:ext cx="82184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Г</a:t>
            </a: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ликопептидни антибиотици</a:t>
            </a:r>
            <a:br>
              <a:rPr sz="3000"/>
            </a:br>
            <a:r>
              <a:rPr b="1" lang="sr-CS" sz="2700" spc="-1" strike="noStrike">
                <a:solidFill>
                  <a:srgbClr val="000000"/>
                </a:solidFill>
                <a:latin typeface="Candara"/>
              </a:rPr>
              <a:t>В</a:t>
            </a:r>
            <a:r>
              <a:rPr b="1" lang="sr-Latn-CS" sz="2700" spc="-1" strike="noStrike">
                <a:solidFill>
                  <a:srgbClr val="000000"/>
                </a:solidFill>
                <a:latin typeface="Candara"/>
              </a:rPr>
              <a:t>анкомицин</a:t>
            </a:r>
            <a:endParaRPr b="1" lang="en-US" sz="27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495440"/>
            <a:ext cx="844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Трициклични гликопептид -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инхибира синтезу ћелијског зида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 бактерије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Делује бактерицидно на грам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позитивне бактерије и на Clostridium difficile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i="1" lang="sr-Latn-CS" sz="2200" spc="-1" strike="noStrike">
                <a:solidFill>
                  <a:srgbClr val="000000"/>
                </a:solidFill>
                <a:latin typeface="Candara"/>
              </a:rPr>
              <a:t>Посебно је корисно његово дејство на стафилококе резистентне на остале антибиотике и на ентерококе</a:t>
            </a:r>
            <a:r>
              <a:rPr b="0" i="1" lang="sr-CS" sz="22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i="1" lang="sr-Latn-CS" sz="22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нтравенск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а примена: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ле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ење системских инфекција изазваних резистентним грам-позитивним бактеријама (пре свега 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MRSA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О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ралн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а примена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ле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ење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пост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антибиот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ског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псеудомембранозног колитиса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(н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е ресорбује се из дигестивног тракта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Продире довољно у ЦНС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лиминише се путем бубрега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Неж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љена дејства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флебитис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синдром црвеног човека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ототоксичност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нефротоксичност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052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личним механизмом делује као ванкомицин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пор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елиминациј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Спектар деловања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исти као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од ванкомицин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оже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примењивати интрамускуларно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ање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ј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нефротоксичан од ванкомицин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;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не изазива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индром црвеног човек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Г</a:t>
            </a: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ликопептидни антибиотици </a:t>
            </a:r>
            <a:br>
              <a:rPr sz="3000"/>
            </a:br>
            <a:r>
              <a:rPr b="1" lang="sr-Latn-CS" sz="2700" spc="-1" strike="noStrike">
                <a:solidFill>
                  <a:srgbClr val="000000"/>
                </a:solidFill>
                <a:latin typeface="Candara"/>
              </a:rPr>
              <a:t>Теикопланин</a:t>
            </a:r>
            <a:endParaRPr b="1" lang="en-US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378000"/>
            <a:ext cx="821844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Тетрациклини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Реверзибилно блокирају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 30S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подјединицу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ајви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е користе за л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ење рикецијалних инфекција (пегави тифус, Q-грозница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...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), инфекција гениталних органа хламидијама и за л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ење пнеумонија узрокованих микоплазмама.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орисни су за л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ење т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их облика акни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обро продиру у сва ткива и телесне т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ности.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Метаболизам у јетри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→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излучивање у жучи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→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реапсорпција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→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излучивање урином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Нежељена дејства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ГИ тегобе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фототоксичност,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хепатотоксичност.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Контраиндиковани код трудница, дојиља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код деце 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мла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ђ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е од 8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година - 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депонују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у зубима и костим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Тигециклин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3628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Т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етрациклинима сличан антибиотик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из групе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глицил-циклина.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Делује бактериостатски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- инхибира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30S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одјединицу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зузетно широк спектар: делује на готово све познате грам позитивне и грам негативне бактерије изузев на </a:t>
            </a:r>
            <a:r>
              <a:rPr b="0" lang="it-IT" sz="2500" spc="-1" strike="noStrike">
                <a:solidFill>
                  <a:srgbClr val="000000"/>
                </a:solidFill>
                <a:latin typeface="Candara"/>
              </a:rPr>
              <a:t>Pseudomonas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О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длично продире у ткив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: индикован за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лечење тешких инфекција коже и поткожја,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интраабдоминал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них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инфекциј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ежељено дејство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мучнин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Примењује се у виду интравенске инфузије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ndara"/>
              </a:rPr>
              <a:t>Антибиотици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Х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мијска једињења која у малим концентрацијама могу да заустав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e ж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вотне процес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е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микроорганизама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Подела антибиотика: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Б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ктериостат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ци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(антибиотици који спр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вају раст бактерија, али их не ун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тавају)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Б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ктериц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ди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(антибиотици који убијају бактерије)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1" lang="en-GB" sz="3300" spc="-1" strike="noStrike">
                <a:solidFill>
                  <a:srgbClr val="000000"/>
                </a:solidFill>
                <a:latin typeface="Candara"/>
              </a:rPr>
              <a:t>миногликозиди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Б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актерицидни антибиотици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нхибирају синтезу протеина у бактеријској 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елији омет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ањем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везивањ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мРНК за рибозоме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200" spc="-1" strike="noStrike">
                <a:solidFill>
                  <a:srgbClr val="000000"/>
                </a:solidFill>
                <a:latin typeface="Candara"/>
              </a:rPr>
              <a:t>Г</a:t>
            </a:r>
            <a:r>
              <a:rPr b="0" i="1" lang="en-US" sz="2200" spc="-1" strike="noStrike">
                <a:solidFill>
                  <a:srgbClr val="000000"/>
                </a:solidFill>
                <a:latin typeface="Candara"/>
              </a:rPr>
              <a:t>ентамицин, амикацин, стрептомицин, тобрамицин, канамицин, нетилмицин</a:t>
            </a:r>
            <a:r>
              <a:rPr b="0" i="1" lang="sr-CS" sz="22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Candara"/>
              </a:rPr>
              <a:t>неомицин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Превасходно делују на аеробне грам-негативне бациле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е делују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 н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а анаероб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римењују се само парентерално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, обзиром да се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не апсорбују из дигестивног тракта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Слабо продиру у ткива и ЦНС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Концентришу се у перилимфи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Излучују се преко бубрега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Нежељена дејства: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ототокси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ност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нефротокси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чност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неуротоксичност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747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Макролиди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Макроциклични лактони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Блокада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 50S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подјединице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Candara"/>
              </a:rPr>
              <a:t>спре</a:t>
            </a:r>
            <a:r>
              <a:rPr b="0" i="1" lang="sr-Latn-CS" sz="16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i="1" lang="en-US" sz="1600" spc="-1" strike="noStrike">
                <a:solidFill>
                  <a:srgbClr val="000000"/>
                </a:solidFill>
                <a:latin typeface="Candara"/>
              </a:rPr>
              <a:t>ава</a:t>
            </a:r>
            <a:r>
              <a:rPr b="0" i="1" lang="sr-CS" sz="1600" spc="-1" strike="noStrike">
                <a:solidFill>
                  <a:srgbClr val="000000"/>
                </a:solidFill>
                <a:latin typeface="Candara"/>
              </a:rPr>
              <a:t>ње</a:t>
            </a:r>
            <a:r>
              <a:rPr b="0" i="1" lang="en-US" sz="1600" spc="-1" strike="noStrike">
                <a:solidFill>
                  <a:srgbClr val="000000"/>
                </a:solidFill>
                <a:latin typeface="Candara"/>
              </a:rPr>
              <a:t> синтез</a:t>
            </a:r>
            <a:r>
              <a:rPr b="0" i="1" lang="sr-CS" sz="16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i="1" lang="en-US" sz="1600" spc="-1" strike="noStrike">
                <a:solidFill>
                  <a:srgbClr val="000000"/>
                </a:solidFill>
                <a:latin typeface="Candara"/>
              </a:rPr>
              <a:t> бактеријских протеина</a:t>
            </a:r>
            <a:r>
              <a:rPr b="0" i="1" lang="sr-CS" sz="16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i="1" lang="en-US" sz="1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Еритромицин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 мањим дозама делује бактериостатски, а у в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им бактерицидно.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Терапијске концентрациј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-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у орофарингеалним и респираторним секрецијам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Индиковани код пацијената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 алерги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ни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х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 на пеницилин који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болују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 од пнеумококне или стрептококне инфекције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Р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окситромицин, азитромицин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- 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ду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е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задр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авају у организму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→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могу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се 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примењивати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 или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 пута дневно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Не продиру у ЦНС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Метаболишу се у јетри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излучују у столици и мокраћи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lnSpc>
                <a:spcPct val="8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Нежељена дејства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ГИ тегобе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ототоксичност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хепатотоксичност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630000"/>
            <a:ext cx="835344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Клиндамицин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Полусинтетски дериват линкомицин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Ефекат остварује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 на исти на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ин као ер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тромицин против пнеумокока, пиогеног стрептокока, S. viridans-a и стафилокок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Делује на грам-позитивне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аеробе и анаеробе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Користан за инфекције главе и врата, 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инфекције анаеробним бактеријама у абдомену и малој карлици и за л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ење апсцеса плу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обро продир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 у ко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тано ткиво и зидове апсцеса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, али не у ЦНС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Метаболизам у јетри, елиминација у урину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Нежељена дејства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псеудомембранозни колитис, оспа</a:t>
            </a:r>
            <a:r>
              <a:rPr b="0" lang="en-US" sz="23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тромбоцитопенија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4920" y="164592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Реверзибилно се везује з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50S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одјединицу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ндикован за тешке аеробне инфекције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Широк спектар деловањ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Добро продире у ЦНС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Метаболише се у јетри, излучује у урину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Нежељена дејств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пластична анемија,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дозно-зависна неутропениј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индром сиве бебе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747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Хлорамфеникол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Сулфонамиди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6994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омпетитивни антагонисти парааминобензојеве киселине,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спр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вају синтезу фолне киселине у бактеријској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лији.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6994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Сулфонамиди инхибирају раст пиогеног стрептокока, пнеумокока, H. influenzae, Actinomyces-a и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Chlamidia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Пон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ју се као бактериостатици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6994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Терапија н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компликован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х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уринарн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х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инфекциј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6994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родиру у ЦНС и плаценту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32640" indent="-3326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6994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Метаболизам у јетри, излучивање у урину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Сулфонамиди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680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Нежељена дејств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: фотосензибилизациј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нгиоедем,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ксфолијативни дерматитис и Stevens-Johnson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в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синдром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хематоло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ка н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љена дејства (агранулоцитоза, анемија) и нефротокс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ост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онтраиндиковани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у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код деце мл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ђ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 од 12 година, при крају трудно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 и током лактације.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1844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Candara"/>
              </a:rPr>
              <a:t>Х</a:t>
            </a:r>
            <a:r>
              <a:rPr b="1" lang="en-GB" sz="3300" spc="-1" strike="noStrike">
                <a:solidFill>
                  <a:srgbClr val="000000"/>
                </a:solidFill>
                <a:latin typeface="Candara"/>
              </a:rPr>
              <a:t>инолони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52712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ndara"/>
              </a:rPr>
              <a:t>Блокирају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ndara"/>
              </a:rPr>
              <a:t>ДНК гиразу; у 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терапијским концентрацијама делују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бактерицидно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Хинолони одли</a:t>
            </a:r>
            <a:r>
              <a:rPr b="0" lang="sr-Latn-CS" sz="20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о делују на E. coli, Salmonellae, Shigellae, Enterobacter, Campylobacter и Neisseria-e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Candara"/>
              </a:rPr>
              <a:t> али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врло слабо делују на анаеробне бактериј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ефлуориран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хинолони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пости</a:t>
            </a:r>
            <a:r>
              <a:rPr b="0" lang="sr-Latn-CS" sz="20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у довољну концентрацију за елиминацију бактерија само у уринарном тракту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луориран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ndara"/>
              </a:rPr>
              <a:t>хинолони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пости</a:t>
            </a:r>
            <a:r>
              <a:rPr b="0" lang="sr-Latn-CS" sz="20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у терапијск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концентрациј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у ве</a:t>
            </a:r>
            <a:r>
              <a:rPr b="0" lang="sr-Latn-CS" sz="20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ини ткива </a:t>
            </a:r>
            <a:r>
              <a:rPr b="0" i="1" lang="sr-CS" sz="20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i="1" lang="sr-CS" sz="1700" spc="-1" strike="noStrike">
                <a:solidFill>
                  <a:srgbClr val="000000"/>
                </a:solidFill>
                <a:latin typeface="Candara"/>
              </a:rPr>
              <a:t>Концентришу се у синусима и мукози средњег ува, продиру у хрскавицу и кости)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ефлуорирани хинолони (пипемидинска киселина, налидиксна киселина) 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уроантисептици, док флуорирани хинолони (ципрофлоксацин, олфлоксацин) 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ле</a:t>
            </a:r>
            <a:r>
              <a:rPr b="0" lang="sr-Latn-CS" sz="20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ењ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инфекција ве</a:t>
            </a:r>
            <a:r>
              <a:rPr b="0" lang="sr-Latn-CS" sz="20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ине ткива и органа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Делимични метаболизам у јетри </a:t>
            </a:r>
            <a:r>
              <a:rPr b="0" lang="sr-Latn-CS" sz="2000" spc="-1" strike="noStrike">
                <a:solidFill>
                  <a:srgbClr val="000000"/>
                </a:solidFill>
                <a:latin typeface="Candara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излучивање преко столице и урин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Ципрофлоксацин и норфлоксацин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ељена дејств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му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ина и лака главобоља,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дијареја,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а понекад фотосензибилизациј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ко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а осп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нвулзије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н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е треба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их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давати болесницима са обољењима ЦНС-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Код особа старости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50 година: повећан ризик од настанка руптуре Ахилове и других тетива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Контраиндиковани су код трудница, у лактацији и код деце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обзиром да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ремете нормалан раст зглобних хрскавица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Левофлоксацин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Индикације: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78240" indent="-340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Ванболничка пнеумонија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78240" indent="-340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Компликоване инфекције уринарног тракта (укључујући пијелонефритис)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78240" indent="-340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Хронични бактеријски простатитис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78240" indent="-340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Инфекције коже и меких ткива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Контраиндикације: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78240" indent="-340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Преосетљивост на хинолоне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78240" indent="-340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Епилепсија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78240" indent="-340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Поремећај тетива настао услед примене хинолона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78240" indent="-340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Деца и адолесценти у развоју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78240" indent="-340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Труднице/дојиље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Не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ељена дејства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му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нина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главобоља,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дијареја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свраб, осип, пораст вредности јетрених ензима, леукопенија..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444240"/>
            <a:ext cx="821844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1" lang="en-GB" sz="3100" spc="-1" strike="noStrike">
                <a:solidFill>
                  <a:srgbClr val="000000"/>
                </a:solidFill>
                <a:latin typeface="Candara"/>
              </a:rPr>
              <a:t>етронидазол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о антибактеријско дејство на анаероб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Мо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е се примењивати и орално и парентерално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Метаболи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е се делом у јетри и излу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ује преко бубрега, боје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и урин црвено-браон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ељена дејств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главобоља, му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ина, сува уста и металан укус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; ретко: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неуротокси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е промене, како на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ЦНС-у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(вртоглавица, ретко конвулзије и атаксија) тако и на периферним нервима (периферна неуропатија)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е треба га примењивати у трудно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има тератогени потенцијал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Принципи употребе антибиотика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Антибиотике не треба примењивати уколико нису неопходн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Узети узорке за микробиолошки преглед пре почетка примене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Лек треба примењивати у довољној дози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После 48-72 сата преиспитати ефикасност антибиотика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и у контексту микробиолошких налаза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размотрити наставак примене или промену антибиотик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У зависности од инфекције, примењивати антибиотик довољно дуго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Није пожељна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истовремена примена бактерицидног и бактериостатског антибиотика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(мада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постоје изузеци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4400" y="19800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Candara"/>
              </a:rPr>
              <a:t>Приликом избора антибиотика размотрити...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639440"/>
            <a:ext cx="83520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пектар дејств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Степен продирања у инфламирана ткив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Резистенцију на антибиотике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Нежељена дејства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ndara"/>
              </a:rPr>
              <a:t>Трошкове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Монотерапија, када је то могућ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Прелазак са парентералне на оралну терапију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Употреба антибиотика са дугим временом                   полуелиминациј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Трајање антибиотске терапије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5680" y="1483920"/>
            <a:ext cx="8302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Нема универзалног правила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 - најчешће: 7 дан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З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ависи од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микроорганизма, места инфекције, фактора организм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Краткотрајн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а примена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50520" indent="-326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Ц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иститис (3 дана), лакши отитис (5 дана), негонороични уретритис (7 дана)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Средње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дуг</a:t>
            </a: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а примена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50520" indent="-326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неумонија (10-14 дана), стрептококни фарингитис (10 дана)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Продужена примена: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50520" indent="-326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4 недеље – хронични отитис медија, хронични синуситис, акутни остеомијелитис, субакутни бактеријски ендокардитис, хронични пијелонефритис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50520" indent="-326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6 недеља – акутни бактеријски ендокардитис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50520" indent="-326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3 месеца – хронични простатитис, апсцес плућа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lvl="1" marL="650520" indent="-326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ndara"/>
              </a:rPr>
              <a:t>6 месеци – ТБЦ, хронични остеомијелитис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77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1" lang="en-GB" sz="3300" spc="-1" strike="noStrike">
                <a:solidFill>
                  <a:srgbClr val="000000"/>
                </a:solidFill>
                <a:latin typeface="Candara"/>
              </a:rPr>
              <a:t>омбин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овање</a:t>
            </a:r>
            <a:r>
              <a:rPr b="1" lang="en-GB" sz="3300" spc="-1" strike="noStrike">
                <a:solidFill>
                  <a:srgbClr val="000000"/>
                </a:solidFill>
                <a:latin typeface="Candara"/>
              </a:rPr>
              <a:t> антибиотика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 - када?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2720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078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Л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ње м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овитих бактеријских инфекц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ја, кад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се примењују антибиоти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ци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са разл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тим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нтибактеријским спектром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865080" indent="-4078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ој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ње антибактеријског дејства на одр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ђ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ног узро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ика комбинацијом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синергистичких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антибиотик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865080" indent="-4078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Л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ње т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ких инфекција код којих узро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ик није познат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6094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Лоша страна комбиновања антибиотика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668240"/>
            <a:ext cx="82090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овећање токсичности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Селекција резистентних сојева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овећање трошкова лечењ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Смањење клиничке ефикасности - бактериостатик и бактерицид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2472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нтибиотска профилакса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476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ости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зање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бактерицидн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концентрација антибиотик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у крви болесника у тренутку када се о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кује продор бактерија у ткива.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Од 30-50% случајев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антибиотици се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могу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корист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ти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за спречавање инфекције, а не за лечење већ манифестне инфективне болести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рофилакса </a:t>
            </a: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у х</a:t>
            </a: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ирур</a:t>
            </a: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гији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555560"/>
            <a:ext cx="82821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Преоперативна примена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 –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у специфи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ним ситуациј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ама: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операције 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у 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којима се вр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и уградња страног материјала (васкуларни графтови, протезе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), операције гнојних процеса, операције на дебелом цреву, трауме са великом девитализацијом ткива, опекотине и дуготрајне хирур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ке интервенције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08520" indent="-30852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Апликација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22800" indent="-31284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Ј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една доза антибиотика, и.в. 2 сата пре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операције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22800" indent="-31284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плус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интраоперативно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ако је операција дужа од 3 сата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08520" indent="-30852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Избор антибиотика зависи од врсте операције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22800" indent="-31284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Ц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ефалоспорини </a:t>
            </a:r>
            <a:r>
              <a:rPr b="0" lang="sr-Latn-CS" sz="2200" spc="-1" strike="noStrike">
                <a:solidFill>
                  <a:srgbClr val="000000"/>
                </a:solidFill>
                <a:latin typeface="Candara"/>
              </a:rPr>
              <a:t>I,II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 генерације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, ванкомицин, метронидазол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08520" indent="-30852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Дуготрајна употреба антибиотика после операција није корисна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чак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може бити и штетна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2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4604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еницилин Г - превенција инфекције стрептококом 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Триметоприм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сулфометоксазол код рекурентних уринарних инфекција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Е.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coli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ревенција ендокардитис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- п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римена пеницилина или еритромицина код болесника са вештачким или оштећеним залисцима код стоматолошких интервенциј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римена изониазида код невакцинисаних особа које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у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у дома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инству са туберкулозним болесником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95280" y="18900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1" lang="en-US" sz="2700" spc="-1" strike="noStrike">
                <a:solidFill>
                  <a:srgbClr val="000000"/>
                </a:solidFill>
                <a:latin typeface="Candara"/>
              </a:rPr>
              <a:t>ндикације за профилакти</a:t>
            </a:r>
            <a:r>
              <a:rPr b="1" lang="sr-Latn-CS" sz="27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1" lang="en-US" sz="2700" spc="-1" strike="noStrike">
                <a:solidFill>
                  <a:srgbClr val="000000"/>
                </a:solidFill>
                <a:latin typeface="Candara"/>
              </a:rPr>
              <a:t>ку примену антибиотика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4920" y="666720"/>
            <a:ext cx="821844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Најчешће 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г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решке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555920"/>
            <a:ext cx="83516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Микроорганизми не реагују на антибиотик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Некоришћење стратегије суздржавања или одложене примене антибиотика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Г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ушобоља, кијавица, кашаљ, акутни синузитис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Лечење фебрилности нејасног узрока: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алигнитети, системске болести везив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Прописивање антибиотика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широког спектра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као први избор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у лакшим инфекцијам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еадекватно дозирањ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еадекватна адјувантна терапија (анемија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едостатак бактериолошке потврде инфекциј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уготрајна парентерална терапиј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635040"/>
            <a:ext cx="815832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Candara"/>
              </a:rPr>
              <a:t>БЕТА-ЛАКТАМСКИ АНТИБИОТИЦИ</a:t>
            </a:r>
            <a:endParaRPr b="1" lang="en-US" sz="3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91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Групу чин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ницилини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Ц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фалоспорини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онобактами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рб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енеми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Св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садр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 бета-лактамски прстен у свом молекулу и делују бактерицидно тако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то спр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авају синтезу 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елијског зида бактериј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Пеницилини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630080"/>
            <a:ext cx="8178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интетише их гљивиц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Penicillium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Делују ефикасно прете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ж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о на грам-позитивне бактерије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остижу терапијску концентрацију у већини ткив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Излучују се преко бубрег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лабо продиру у ЦНС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Нежељена дејства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реосетљивост (</a:t>
            </a:r>
            <a:r>
              <a:rPr b="0" lang="it-IT" sz="2500" spc="-1" strike="noStrike">
                <a:solidFill>
                  <a:srgbClr val="000000"/>
                </a:solidFill>
                <a:latin typeface="Candara"/>
              </a:rPr>
              <a:t>нај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ешће</a:t>
            </a:r>
            <a:r>
              <a:rPr b="0" lang="it-IT" sz="2500" spc="-1" strike="noStrike">
                <a:solidFill>
                  <a:srgbClr val="000000"/>
                </a:solidFill>
                <a:latin typeface="Candara"/>
              </a:rPr>
              <a:t>, анафилакти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it-IT" sz="2500" spc="-1" strike="noStrike">
                <a:solidFill>
                  <a:srgbClr val="000000"/>
                </a:solidFill>
                <a:latin typeface="Candara"/>
              </a:rPr>
              <a:t>ка реакција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), неуротоксичност, нефритис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092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риродни пеницилини: пеницилин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Г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еницилин В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нтистафилококни пеницилини: метицилин, нафцилин, оксацилин, диклоксацилин, клоксацилин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минопеницилини: амоксицилин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+/-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клавуланат, ампицилин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+/-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улбактам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Антипсеудомонасни пеницилини: пиперацилин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+/-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тазобактам, карбеницилин, тикарцилин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 +/- 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клавуланат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821844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Candara"/>
              </a:rPr>
              <a:t>Цефалоспорини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ndara"/>
              </a:rPr>
              <a:t>Према времену уво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ђ</a:t>
            </a:r>
            <a:r>
              <a:rPr b="0" lang="it-IT" sz="2700" spc="-1" strike="noStrike">
                <a:solidFill>
                  <a:srgbClr val="000000"/>
                </a:solidFill>
                <a:latin typeface="Candara"/>
              </a:rPr>
              <a:t>ења у клини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it-IT" sz="2700" spc="-1" strike="noStrike">
                <a:solidFill>
                  <a:srgbClr val="000000"/>
                </a:solidFill>
                <a:latin typeface="Candara"/>
              </a:rPr>
              <a:t>ку праксу, цефалоспорини се деле на 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it-IT" sz="2700" spc="-1" strike="noStrike">
                <a:solidFill>
                  <a:srgbClr val="000000"/>
                </a:solidFill>
                <a:latin typeface="Candara"/>
              </a:rPr>
              <a:t>етири генерације. 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ndara"/>
              </a:rPr>
              <a:t>Генерације се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it-IT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између осталог, </a:t>
            </a:r>
            <a:r>
              <a:rPr b="0" lang="it-IT" sz="2700" spc="-1" strike="noStrike">
                <a:solidFill>
                  <a:srgbClr val="000000"/>
                </a:solidFill>
                <a:latin typeface="Candara"/>
              </a:rPr>
              <a:t>ме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ђ</a:t>
            </a:r>
            <a:r>
              <a:rPr b="0" lang="it-IT" sz="2700" spc="-1" strike="noStrike">
                <a:solidFill>
                  <a:srgbClr val="000000"/>
                </a:solidFill>
                <a:latin typeface="Candara"/>
              </a:rPr>
              <a:t>усобно разликују према спектру деловања.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Излучују се путем бубрега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Цефалоспорини</a:t>
            </a:r>
            <a:br>
              <a:rPr sz="3000"/>
            </a:br>
            <a:r>
              <a:rPr b="1" i="1" lang="it-IT" sz="2500" spc="-1" strike="noStrike">
                <a:solidFill>
                  <a:srgbClr val="000000"/>
                </a:solidFill>
                <a:latin typeface="Candara"/>
              </a:rPr>
              <a:t>Прва генерација</a:t>
            </a:r>
            <a:endParaRPr b="1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ndara"/>
              </a:rPr>
              <a:t>Антибиотици из ове групе делују на стрептокок групе A, B, C и G, на S. viridans, пнеумокoк, Staphylococcus aureus и epidermidis, на E. coli, Proteus mirabilis и Klebsiella-у.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ndara"/>
              </a:rPr>
              <a:t>Најкориснији у клини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it-IT" sz="2600" spc="-1" strike="noStrike">
                <a:solidFill>
                  <a:srgbClr val="000000"/>
                </a:solidFill>
                <a:latin typeface="Candara"/>
              </a:rPr>
              <a:t>кој пракси: цефазолин и цефадроксил за парентералну примену, а цефалексин и цефрадин за оралну примену.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ndara"/>
              </a:rPr>
              <a:t>Цефазолин је показао одли</a:t>
            </a:r>
            <a:r>
              <a:rPr b="0" lang="sr-Latn-CS" sz="26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it-IT" sz="2600" spc="-1" strike="noStrike">
                <a:solidFill>
                  <a:srgbClr val="000000"/>
                </a:solidFill>
                <a:latin typeface="Candara"/>
              </a:rPr>
              <a:t>не резултате у преоперативној антибиотској профилакси.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1844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Candara"/>
              </a:rPr>
              <a:t>Цефалоспорини</a:t>
            </a:r>
            <a:br>
              <a:rPr sz="3000"/>
            </a:br>
            <a:r>
              <a:rPr b="1" i="1" lang="it-IT" sz="2500" spc="-1" strike="noStrike">
                <a:solidFill>
                  <a:srgbClr val="000000"/>
                </a:solidFill>
                <a:latin typeface="Candara"/>
              </a:rPr>
              <a:t>Друга генерација</a:t>
            </a:r>
            <a:endParaRPr b="1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Ови лекови имају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ири спектар од цефалоспорина прве генерациј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- 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делују и на: Citrobacter, Enterobacter, в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и број сојева E. coli, Klebsiella-e и Proteus mirabilis-a.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35880" indent="-335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Показују 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в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ећ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 отпорно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ст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 према бета-лактамазама.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35880" indent="-335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Припадници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: цефахлор, цефамандол, цефокситин,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цефуроксим, цефотетан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35880" indent="-335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Осим цефахлора, сви остали се примењују само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парентерално.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35880" indent="-335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Цефахлор је веома користан за л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ење отитис медије, синузитиса, респираторних инфекција изазваних Hemophyllus-ом influenzae и уринарних инфекција у трудно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ћ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и. 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35880" indent="-335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Остали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припадници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II 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генерациј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ле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ч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ење хирур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ш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ких инфекција у абдомену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преоперативн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 профилакс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it-IT" sz="23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20:01Z</dcterms:created>
  <dc:creator>Marko</dc:creator>
  <dc:description/>
  <dc:language>en-US</dc:language>
  <cp:lastModifiedBy>Marko</cp:lastModifiedBy>
  <dcterms:modified xsi:type="dcterms:W3CDTF">2018-02-01T17:04:18Z</dcterms:modified>
  <cp:revision>531</cp:revision>
  <dc:subject>Klinicki farmakolog</dc:subject>
  <dc:title>Predavanje za sajt fakulteta</dc:title>
</cp:coreProperties>
</file>